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10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BC93-C8EF-4B97-8A09-E26DD784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ABC-D5BC-4DBB-AEFF-CD9C8144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850A-C34A-4247-A51A-50AA9A71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CCD-9BC6-46F2-9B38-FE5406A8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A99-94EF-498D-9EBE-5E276848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55A-A2A8-4933-8951-A9F82530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AC6D-34C5-4413-8692-4AC46B3A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838D-6929-43AF-BF83-80E56BCA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24A-BE27-4247-911E-4A8E168B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E4DC-DF55-40C4-94CE-3F4CDAA0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FE8-BE43-4ABE-9370-BFAC7976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86D-78A6-47D7-A706-983EFDB6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A4B1-5367-4A31-B4F5-903613E9A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5.wmf"/><Relationship Id="rId24" Type="http://schemas.openxmlformats.org/officeDocument/2006/relationships/image" Target="../media/image16.png"/><Relationship Id="rId2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752480"/>
            <a:ext cx="65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сиомы стереометри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3581280"/>
            <a:ext cx="4724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1989000" cy="198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9400" y="5938920"/>
            <a:ext cx="457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хорукова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У «Борисовская СОШ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Параллельные прямые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59092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066680" y="2819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304776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57200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4191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05720" y="487656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628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52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3120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74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400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27432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 в пространстве 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параллельными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, если они лежат в одной плоскости и не пересекаю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4920" y="5068800"/>
            <a:ext cx="51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, которые не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и не лежат в одной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скрещив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араллелепипеде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A…D</a:t>
            </a:r>
            <a:r>
              <a:rPr b="0" lang="ru-RU" sz="12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укажите параллельные и скрещивающиеся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2666880"/>
            <a:ext cx="2438280" cy="2667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8128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28640" y="4724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00040" y="4952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97144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45000" y="525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8320" y="30481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852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8160" y="23623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880" y="449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920" y="2362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5012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2400" y="312408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ирамиде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укажите все пары скрещивающихся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7920" y="2666880"/>
            <a:ext cx="12956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2666880"/>
            <a:ext cx="10666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44956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200400" y="44953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200400" y="2666880"/>
            <a:ext cx="5335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3552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608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92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9400" y="22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219320" y="457200"/>
            <a:ext cx="6933600" cy="6171840"/>
            <a:chOff x="1219320" y="457200"/>
            <a:chExt cx="6933600" cy="6171840"/>
          </a:xfrm>
        </p:grpSpPr>
        <p:sp>
          <p:nvSpPr>
            <p:cNvPr id="259" name=""/>
            <p:cNvSpPr/>
            <p:nvPr/>
          </p:nvSpPr>
          <p:spPr>
            <a:xfrm>
              <a:off x="1219320" y="1737000"/>
              <a:ext cx="6933600" cy="310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3113280" y="4684680"/>
              <a:ext cx="4692960" cy="19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2711160" y="457200"/>
              <a:ext cx="3754080" cy="14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 txBox="1"/>
          <p:nvPr/>
        </p:nvSpPr>
        <p:spPr>
          <a:xfrm>
            <a:off x="2286000" y="2743200"/>
            <a:ext cx="4876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762120"/>
            <a:ext cx="8381880" cy="5943600"/>
            <a:chOff x="304920" y="762120"/>
            <a:chExt cx="8381880" cy="5943600"/>
          </a:xfrm>
        </p:grpSpPr>
        <p:sp>
          <p:nvSpPr>
            <p:cNvPr id="46" name=""/>
            <p:cNvSpPr/>
            <p:nvPr/>
          </p:nvSpPr>
          <p:spPr>
            <a:xfrm>
              <a:off x="3200400" y="52196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52196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0400" y="37339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37339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22478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2478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00400" y="7621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621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621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2478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373392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52196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67057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762120"/>
              <a:ext cx="0" cy="59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8680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99072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две точки пространства проходит единственная 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362320"/>
            <a:ext cx="5257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три точки пространства, не принадлежащие одной прямой,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9625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две плоскости имеют общую точку, то 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5334120"/>
            <a:ext cx="5486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Существуют по крайней мере четыре точки, не принадлежащие одн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33720" cy="106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789280" cy="1013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09480" y="5410080"/>
            <a:ext cx="23716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9480" y="3733920"/>
            <a:ext cx="2286000" cy="141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3733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304920" y="762120"/>
            <a:ext cx="8458200" cy="5478480"/>
            <a:chOff x="304920" y="762120"/>
            <a:chExt cx="8458200" cy="5478480"/>
          </a:xfrm>
        </p:grpSpPr>
        <p:sp>
          <p:nvSpPr>
            <p:cNvPr id="72" name=""/>
            <p:cNvSpPr/>
            <p:nvPr/>
          </p:nvSpPr>
          <p:spPr>
            <a:xfrm>
              <a:off x="3200400" y="4456080"/>
              <a:ext cx="556272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4456080"/>
              <a:ext cx="289548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2666880"/>
              <a:ext cx="556272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2666880"/>
              <a:ext cx="289548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762120"/>
              <a:ext cx="55627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920" y="762120"/>
              <a:ext cx="28954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76212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920" y="26668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44560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624060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0400" y="762120"/>
              <a:ext cx="0" cy="54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352680" y="914400"/>
            <a:ext cx="5029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прямая имеет с плоскостью две общие точки, то она лежит в эт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28195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прямую и не принадлежащую ей точку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6483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две пересекающиеся прямые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2371680" cy="706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2371680" cy="70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09480" y="4952880"/>
            <a:ext cx="237168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791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imes New Roman Cyr"/>
              </a:rPr>
              <a:t>Ответ: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 а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C</a:t>
            </a:r>
            <a:r>
              <a:rPr b="0" i="1" lang="ru-RU" sz="2400" spc="-1" strike="noStrike">
                <a:solidFill>
                  <a:srgbClr val="ff3300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должны принадлежать одной прямой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;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б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должны принадлежать 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914400"/>
            <a:ext cx="8077320" cy="1922760"/>
            <a:chOff x="457200" y="914400"/>
            <a:chExt cx="8077320" cy="1922760"/>
          </a:xfrm>
        </p:grpSpPr>
        <p:sp>
          <p:nvSpPr>
            <p:cNvPr id="94" name=""/>
            <p:cNvSpPr/>
            <p:nvPr/>
          </p:nvSpPr>
          <p:spPr>
            <a:xfrm>
              <a:off x="457200" y="914400"/>
              <a:ext cx="7924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Найдите ошибку на рисунк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</a:rPr>
                <a:t>ах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если: а)  и  - две пересекающиеся плоскости, и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как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так 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; б)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- три попарно пересекающиеся плоскости, причем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K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L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плоскостям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а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N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O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P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–плоскостям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6477120" y="1066680"/>
            <a:ext cx="228600" cy="216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77120" y="106668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7182000" y="1009800"/>
            <a:ext cx="190440" cy="33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82000" y="1009800"/>
                      <a:ext cx="1904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990720" y="1828800"/>
            <a:ext cx="228600" cy="216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907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2133720" y="1752480"/>
            <a:ext cx="190440" cy="330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2819520" y="1828800"/>
            <a:ext cx="228600" cy="216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8195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3276720" y="1752480"/>
            <a:ext cx="190440" cy="330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276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740040" y="1784520"/>
            <a:ext cx="177840" cy="266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740040" y="1784520"/>
                      <a:ext cx="17784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8305920" y="2133720"/>
            <a:ext cx="228600" cy="2156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305920" y="21337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838080" y="2438280"/>
            <a:ext cx="190800" cy="3304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38080" y="2438280"/>
                      <a:ext cx="1908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5105520" y="2514600"/>
            <a:ext cx="228600" cy="2160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105520" y="25146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5715000" y="2514600"/>
            <a:ext cx="177840" cy="2667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715000" y="2514600"/>
                      <a:ext cx="1778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7" name="" descr=""/>
          <p:cNvPicPr/>
          <p:nvPr/>
        </p:nvPicPr>
        <p:blipFill>
          <a:blip r:embed="rId24"/>
          <a:stretch/>
        </p:blipFill>
        <p:spPr>
          <a:xfrm>
            <a:off x="533520" y="2743200"/>
            <a:ext cx="80038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3520" y="5410080"/>
            <a:ext cx="2819160" cy="459720"/>
            <a:chOff x="533520" y="5410080"/>
            <a:chExt cx="2819160" cy="459720"/>
          </a:xfrm>
        </p:grpSpPr>
        <p:sp>
          <p:nvSpPr>
            <p:cNvPr id="120" name=""/>
            <p:cNvSpPr/>
            <p:nvPr/>
          </p:nvSpPr>
          <p:spPr>
            <a:xfrm>
              <a:off x="533520" y="54100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</a:rPr>
                <a:t>Ответ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 Cyr"/>
                </a:rPr>
                <a:t>: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1523880" y="5486040"/>
            <a:ext cx="774360" cy="343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5486040"/>
                      <a:ext cx="7743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380880" y="1371600"/>
            <a:ext cx="7925040" cy="3586320"/>
            <a:chOff x="380880" y="1371600"/>
            <a:chExt cx="7925040" cy="3586320"/>
          </a:xfrm>
        </p:grpSpPr>
        <p:sp>
          <p:nvSpPr>
            <p:cNvPr id="124" name=""/>
            <p:cNvSpPr/>
            <p:nvPr/>
          </p:nvSpPr>
          <p:spPr>
            <a:xfrm>
              <a:off x="380880" y="1371600"/>
              <a:ext cx="792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Определите по рисунку плоскостям каких фигур принадлежит точка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лоскости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4800600" y="1905120"/>
            <a:ext cx="228600" cy="21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00600" y="19051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1676520" y="2743200"/>
              <a:ext cx="5438520" cy="221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Найдите ошибку на чертеже. Дайте объя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43828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10800000">
            <a:off x="1065600" y="365724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95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7400" y="28954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657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83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400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500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7280" y="40384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516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9400" y="62118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очка М не принадлежит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Как расположены относительно друг друга плоскост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 Ответ объясните. При необходимости дополните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96252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11480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89548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428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252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060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3080" y="35053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0" y="4724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744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297180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8000" y="37339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76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9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768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20640" y="35416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14440" y="48369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45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715000"/>
            <a:ext cx="94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.к. плоскости имеют одну общую точку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Сколько плоскостей можно провести через прямую 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71600" y="335232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16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095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бесконечно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Как расположены плоскост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167616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7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52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096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571464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628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800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944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943600" y="45720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12408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62560" y="312408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4680" y="613584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ересекаются по прямой, содержащей точку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0-08T02:30:4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